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243-9D01-42CF-A3E9-B3DD0A6D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09F-E0F6-4D9E-B68A-B7D846B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4DA-8135-4E6B-87FD-219C8A47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1C6-15F6-4928-9EDB-5C969A52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D4A8-F729-45C4-8A1B-BF7839B5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819-23B7-46E7-9FE0-B2F0DEC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7BC-7255-4C97-8A72-1FA5C79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44C-8A97-43D4-8DAC-9B8FFA84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E4A4-3FE8-4D6C-9529-02DA3B4B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E5A1-0393-444D-A232-1E560FA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890-AC66-451C-9530-887B0F6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172-8FDC-417B-BD5C-30CF556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02C-7F18-4AC3-AD2F-3D84489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D3A9-AB4F-4AB4-BD7C-44A3F48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DFCF-D3AE-420B-B5A9-782414A2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672-C69E-460C-86B6-5135B6CB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CC04-B23A-42F4-9B14-F6E413A5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EEE-2CC4-4D1A-90A6-288C57F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0C7-78C9-4654-B724-9F95791D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394-F531-42E0-87E8-F2D99175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C5D-AF74-471A-B5F8-E472EF7B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C26-8FF1-423F-8F8D-3D909F9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AEC-3172-4D8D-90B5-95E7F3E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E4F-0EDE-44B0-B3E4-644994B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77B6-4294-4AF4-8BE3-2A9076D8B6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D714-686E-41DE-BF70-4CBB1E19A6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1989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Bookman Old Style"/>
              </a:rPr>
              <a:t>Класс насеко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D:\ТАША\картинки\бабочки , насекомые\animated_fly.gif"/>
          <p:cNvPicPr/>
          <p:nvPr/>
        </p:nvPicPr>
        <p:blipFill>
          <a:blip r:embed="rId1"/>
          <a:stretch/>
        </p:blipFill>
        <p:spPr>
          <a:xfrm>
            <a:off x="5796000" y="3860640"/>
            <a:ext cx="2241360" cy="22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:\ТАША\картинки\бабочки , насекомые\beeсм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947880"/>
            <a:ext cx="15112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851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Это самый многочисленный класс животных на Земле. Насекомые приспособились к самым различным среда обитания; единственные представители беспозвоночных животных способных летать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3168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9f2fd"/>
                </a:solidFill>
                <a:latin typeface="GungsuhChe"/>
              </a:rPr>
              <a:t>Отличаются ли «шестиногие» от пауков?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2920" y="2565360"/>
            <a:ext cx="67820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о! Паука знают все и стоит только представить себе его, вспоминаются четыре пары па­учьих ног. Такое число ходильных ног характерно для всех паукообразных — этим они отличаются от «шестиногих» насеком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8880" y="1700280"/>
            <a:ext cx="838512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Строение насеком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2" descr="D:\ТАША\картинки\бабочки , насекомые\C14-5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716280"/>
            <a:ext cx="3429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513000"/>
            <a:ext cx="7189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ль насекомых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секомые играют большую роль в природе, ведь они занимают 80% все животных на планете. Более чем 75% растений опыляется насекомыми. Растения привлекают их своими формами, ароматами, нектаром, пыльцой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почвообразовании насекомые тоже участвуют, они разрыхляют почву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кже насекомые являются санитарами, они очищают водоемы – питаются гниющими органическими осадками. Многих из санитаров вы знаете: мухи-мясоедки, мухи-навозницы, падальщики, могильщики, жуки-навозники и другие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ажную роль насекомые играют в пищевой цепочке. Ими питаются ящерицы (10-20 особей в день), лягушки (до 95% от дневного рациона), млекопитающие (кроты, муравьеды и др.), рыбы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62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ungsuhChe"/>
              </a:rPr>
              <a:t>Роль насекомых в жизни человека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Насекомые приносят как пользу так и вред человеку. Некоторые насекомые переносят болезни (комары, блохи, москиты, клещи). 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Например комары переносят малярию, желтую лихорадку и лихорадку денге. Блохи переносят туляремию и чуму. Москиты переносят лейшманиоз, а клещи – клещевой энцефалит. 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Но не все насекомые вредят, некоторые просто могут насаждать человеку. 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Пользу к примеру приносят пчелы, ведь благодаря им возможно производство меда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38512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При изучении данной темы мы, действительно узнаем, что Класс Насекомые занимает самую большую численность фауны нашей планеты.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Познакомились с морфологией насекомого, а также выяснили их роль в природе и в жизни челове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4751280"/>
            <a:ext cx="2869920" cy="191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:\ТАША\картинки\бабочки , насекомые\animated_ladybug.gif"/>
          <p:cNvPicPr/>
          <p:nvPr/>
        </p:nvPicPr>
        <p:blipFill>
          <a:blip r:embed="rId2"/>
          <a:stretch/>
        </p:blipFill>
        <p:spPr>
          <a:xfrm>
            <a:off x="611280" y="260280"/>
            <a:ext cx="1376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21:25:32Z</dcterms:created>
  <dc:creator>надюша</dc:creator>
  <dc:description/>
  <dc:language>en-US</dc:language>
  <cp:lastModifiedBy>надюша</cp:lastModifiedBy>
  <dcterms:modified xsi:type="dcterms:W3CDTF">2011-05-10T22:23:22Z</dcterms:modified>
  <cp:revision>2</cp:revision>
  <dc:subject/>
  <dc:title>Класс насекомые</dc:title>
</cp:coreProperties>
</file>